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33D1-2C95-41A0-B686-6BF2F9E70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5301-F9CB-443E-B19E-476FAD03B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E88D-5417-470D-B048-0FDB90DB4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474-EF2D-4AA3-9718-D93303DD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8EF-EEC3-459B-B4E4-DFE5723F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EA7-92DC-44DF-86BE-0E79347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CD4-9B29-4002-BB85-B41BBFED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8B0-D4E5-4699-AFC9-D7D26C2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DA5-3898-49DC-B3B1-8C6A318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EFD-7229-4860-B4F4-B281645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15F-4678-4FAD-A8D8-F246E60E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BC0-602F-4BA0-A6C6-A819727E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02E-82FB-4D79-9D2C-1E00FD55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AA5-36C0-496E-A120-A29AC108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D23-1035-4917-9735-17F80E3B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7161-7170-492F-B102-FD85EFB9CB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1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must be linked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collection not standard (need to use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(Mvomero, Kilosa, …)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-teams need to work more clos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ly involve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335480" cy="2438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4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5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AVRDC – The World Vegetable Center — avrdc.org"/>
            <p:cNvPicPr/>
            <p:nvPr/>
          </p:nvPicPr>
          <p:blipFill>
            <a:blip r:embed="rId4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maize- and rice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60948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cal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-legume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and foster agricultural biodiversi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; technologies to reduce losses and bring quality up to market standard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: FtF Zones of Influence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2" name="Content Placeholder 3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91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372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Progr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457200" y="1600200"/>
          <a:ext cx="8229600" cy="34750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verall prog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Better cr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job for sub-teams (maize-legumes, rice, vegetables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tions by location (agroecology, socioeconomic and cultural aspects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selection 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Good pract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Natural resour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Post-harves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much yet due to nature of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Community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FAKA and non-NAFAKA locations vary; impl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6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Odhong, Jonathan (IITA)</cp:lastModifiedBy>
  <cp:lastPrinted>2011-10-06T11:45:23Z</cp:lastPrinted>
  <dcterms:modified xsi:type="dcterms:W3CDTF">2015-07-10T14:37:00Z</dcterms:modified>
  <cp:revision>20</cp:revision>
  <dc:subject/>
  <dc:title>PowerPoint Presentation</dc:title>
</cp:coreProperties>
</file>